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82157-65DE-4D6C-8EF9-FD82B080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D1D35-A7D4-4066-A48D-97B1295E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B11E1-9E82-4596-A235-DB23093E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0A94C-F5BE-4F83-A97F-375E299F3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309D-93B0-4371-AEB0-BA5153FDF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6F84-5DF7-458A-8240-99B98C32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9083-792C-4DCB-B888-4DC25E48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5CDF-28F9-47C6-B534-519DCA7B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00BB-9E7D-4903-BC2D-9E46A580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0CFF-2DE3-48C6-8454-744A7D28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B318-322D-4DFB-A36E-83233A07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93062-AA7B-4DDB-9318-2E54856D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7541-D0ED-4D17-8D74-FECAB196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63B2-AA0A-43AA-ACB0-8DB10AB1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4ABA-7E48-4E2B-AA3C-EAEA54CA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858B-9133-4F29-9BD6-269920438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C6C7-F523-42B3-9A4C-933293B8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E9269-DFE9-4DBA-BD71-D3B2386B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94256-F41C-4E2E-9522-0A2F9421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E18D8-0957-4797-B42C-F0085620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60AEE-4CC6-437B-85DD-E9C36CBC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C8E08-32B5-471C-BC12-1EA2FDFF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CEF18-C1E7-4212-B7AB-11DD71F7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A51F2-91E4-4A18-9C69-14DDAE2D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D9BD-F9A3-4C49-B4A0-26EA4DC815A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6B1B-9CD7-4C2A-82DC-4E75DE29CC9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864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157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(Пр.251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Нека престанат плач и сълзи -милий Исус при мене сто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ихо и нежно говори Той мен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чуя гласа Му и ставам блажен!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1144080"/>
            <a:ext cx="9577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ожии святи ангел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тават ми приятел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щом Спа­сителят е с мен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 Спасител, Спасител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пасителят е с мен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252360" y="144864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Без страх посрещам аз всяко зло; щом Бог е с мене, всичко е добро! Тихо ли спя, или буден стоя, [:Господ е с мене и не се боя!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252360" y="1144080"/>
            <a:ext cx="9577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ожии святи ангел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тават ми приятел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щом Спа­сителят е с мен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 Спасител, Спасител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пасителят е с мен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936360"/>
            <a:ext cx="9577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Земната радост кратка е, знам! Истински вечен мир има там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ук аз чрез вяра ще ходя с Христа, [:Там с Него вечно ще съм у дома!:]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252360" y="1144080"/>
            <a:ext cx="9577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ожии святи ангел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тават ми приятел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щом Спа­сителят е с мен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 Спасител, Спасител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пасителят е с мен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4-17T14:42:10Z</dcterms:modified>
  <cp:revision>90</cp:revision>
  <dc:subject/>
  <dc:title>Slide 1</dc:title>
</cp:coreProperties>
</file>